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FE12-D806-4F53-8161-4C24E25C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11E4-2098-4DC7-BD67-631DB800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D3B0-1E73-40DA-9E7E-B0FB68E8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56DC-AE7D-41C9-87CD-1F6AFA9F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4AB-5DD3-4498-8B8A-E4B65EA6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AB72-6432-47DF-9A0E-23AFC7B0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7C62-22FD-4782-AF78-A2095196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A331-6B97-4FBF-BF89-9EC5B86D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A432-773B-4127-A0BF-2FF18CFE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ACC4-2591-44F9-B0EF-47C21A6D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30ED-0ED3-41E9-8408-BF404FC4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F772-5D43-4503-923B-B52A86FD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242E-D3CA-403E-B43F-DD488998DE40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4760" y="1363680"/>
            <a:ext cx="8364600" cy="4924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560" y="1620720"/>
            <a:ext cx="4583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M.S Data Provider applica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9800" y="1089000"/>
            <a:ext cx="82695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33"/>
                </a:solidFill>
                <a:latin typeface="Verdana"/>
              </a:rPr>
              <a:t>&gt;M.S D.Pr. applic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24720" y="5300640"/>
            <a:ext cx="7192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Log-ou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56000" y="2421000"/>
            <a:ext cx="5832360" cy="39528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56000" y="4041720"/>
            <a:ext cx="5832360" cy="39528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2995560"/>
            <a:ext cx="5832360" cy="39528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84520" y="4083120"/>
            <a:ext cx="36370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ip depart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84520" y="2498760"/>
            <a:ext cx="41050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cted ship call (pre-arriva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84520" y="3075120"/>
            <a:ext cx="30607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ip arriv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56000" y="3517920"/>
            <a:ext cx="5832360" cy="39528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84520" y="3578400"/>
            <a:ext cx="36370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ZMAT notification prior to depart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54" name="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BSOU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01560" y="2421000"/>
            <a:ext cx="1738440" cy="2160360"/>
            <a:chOff x="601560" y="2421000"/>
            <a:chExt cx="1738440" cy="2160360"/>
          </a:xfrm>
        </p:grpSpPr>
        <p:sp>
          <p:nvSpPr>
            <p:cNvPr id="58" name=""/>
            <p:cNvSpPr/>
            <p:nvPr/>
          </p:nvSpPr>
          <p:spPr>
            <a:xfrm>
              <a:off x="601560" y="2421000"/>
              <a:ext cx="1738440" cy="2160360"/>
            </a:xfrm>
            <a:prstGeom prst="flowChartAlternateProcess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1560" y="2971800"/>
              <a:ext cx="173844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ff"/>
                  </a:solidFill>
                  <a:latin typeface="Verdana"/>
                </a:rPr>
                <a:t>Send/ update notifications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1560" y="1620720"/>
            <a:ext cx="3017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Select Vess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9800" y="1089000"/>
            <a:ext cx="82695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Verdana"/>
              </a:rPr>
              <a:t>&gt;M.S D.Pr application&gt;Notify/update expected ship call&gt;</a:t>
            </a:r>
            <a:r>
              <a:rPr b="1" lang="en-GB" sz="1200" spc="-1" strike="noStrike">
                <a:solidFill>
                  <a:srgbClr val="ff9933"/>
                </a:solidFill>
                <a:latin typeface="Verdana"/>
              </a:rPr>
              <a:t>Step 1: Select vesse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78040" y="204480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O Number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22680" y="202716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MSI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44720" y="206064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3280" y="203832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78040" y="230832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all Sign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11640" y="228924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hip Name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44720" y="232416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3280" y="230184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8000" y="2610000"/>
            <a:ext cx="7066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arc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95760" y="26100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01560" y="3429000"/>
            <a:ext cx="7966080" cy="1608480"/>
            <a:chOff x="601560" y="3429000"/>
            <a:chExt cx="7966080" cy="1608480"/>
          </a:xfrm>
        </p:grpSpPr>
        <p:sp>
          <p:nvSpPr>
            <p:cNvPr id="73" name=""/>
            <p:cNvSpPr/>
            <p:nvPr/>
          </p:nvSpPr>
          <p:spPr>
            <a:xfrm>
              <a:off x="601560" y="3429000"/>
              <a:ext cx="1602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                 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hip   Name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03560" y="3429000"/>
              <a:ext cx="8222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IMO Number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17880" y="3429000"/>
              <a:ext cx="954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 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MMSI 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97440" y="3429000"/>
              <a:ext cx="792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hip   Call Sig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89440" y="3429000"/>
              <a:ext cx="927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Last Call ATD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16440" y="3429000"/>
              <a:ext cx="90828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urrent Call ETA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24720" y="3429000"/>
              <a:ext cx="9716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urrent Call AT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96360" y="3429000"/>
              <a:ext cx="95868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urrent Call ATD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1560" y="3825720"/>
              <a:ext cx="160200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  </a:t>
              </a:r>
              <a:r>
                <a:rPr b="1" lang="en-US" sz="1000" spc="-1" strike="noStrike" u="sng">
                  <a:solidFill>
                    <a:srgbClr val="0099ff"/>
                  </a:solidFill>
                  <a:uFillTx/>
                  <a:latin typeface="Verdana"/>
                </a:rPr>
                <a:t>ICARO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03560" y="3825720"/>
              <a:ext cx="82224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038842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17880" y="3825720"/>
              <a:ext cx="97956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522690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97440" y="3825720"/>
              <a:ext cx="79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FGV3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89440" y="3825720"/>
              <a:ext cx="927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4/3/2007 16: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16440" y="3825720"/>
              <a:ext cx="87948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24720" y="3825720"/>
              <a:ext cx="97164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6360" y="3825720"/>
              <a:ext cx="97128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1560" y="4232160"/>
              <a:ext cx="160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</a:t>
              </a:r>
              <a:r>
                <a:rPr b="1" lang="en-US" sz="1000" spc="-1" strike="noStrike" u="sng">
                  <a:solidFill>
                    <a:srgbClr val="0099ff"/>
                  </a:solidFill>
                  <a:uFillTx/>
                  <a:latin typeface="Verdana"/>
                </a:rPr>
                <a:t>ICARUS PALACE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03560" y="4232160"/>
              <a:ext cx="82224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144811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17880" y="4232160"/>
              <a:ext cx="97956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395190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97440" y="4232160"/>
              <a:ext cx="79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SWEW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89440" y="4232160"/>
              <a:ext cx="927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6/2/2006 15:3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16440" y="4232160"/>
              <a:ext cx="87948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9/7/2009 21:3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24720" y="4232160"/>
              <a:ext cx="97164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6360" y="4232160"/>
              <a:ext cx="971280" cy="7038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1560" y="4638600"/>
              <a:ext cx="160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</a:t>
              </a:r>
              <a:r>
                <a:rPr b="1" lang="en-US" sz="1000" spc="-1" strike="noStrike" u="sng">
                  <a:solidFill>
                    <a:srgbClr val="0099ff"/>
                  </a:solidFill>
                  <a:uFillTx/>
                  <a:latin typeface="Verdana"/>
                </a:rPr>
                <a:t>ICARUS  III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90600" y="4638600"/>
              <a:ext cx="82260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145413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05280" y="4638600"/>
              <a:ext cx="97920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123350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984480" y="4638600"/>
              <a:ext cx="79236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3WM9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76840" y="4638600"/>
              <a:ext cx="927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/7/2008 18:25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03840" y="4638600"/>
              <a:ext cx="87948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/6/2009 07:2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11760" y="4638600"/>
              <a:ext cx="97164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/6/2009 08:05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83400" y="4638600"/>
              <a:ext cx="97164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01560" y="5734080"/>
            <a:ext cx="826956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Verdana"/>
              </a:rPr>
              <a:t>3 vessels found, displaying 3 item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11720" y="2308320"/>
            <a:ext cx="504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ICA*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108" name="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BSOU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908000" y="2610000"/>
            <a:ext cx="706680" cy="24624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arc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17600" y="1204920"/>
            <a:ext cx="8364600" cy="54500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81200"/>
            <a:ext cx="5194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Insert/ Update expected ship call dat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4760" y="981000"/>
            <a:ext cx="8269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2b2b2"/>
                </a:solidFill>
                <a:latin typeface="Verdana"/>
              </a:rPr>
              <a:t>&gt;M.S D.Pr application&gt;Notify/update expected ship call&gt;</a:t>
            </a:r>
            <a:r>
              <a:rPr b="1" lang="en-GB" sz="1000" spc="-1" strike="noStrike">
                <a:solidFill>
                  <a:srgbClr val="ff9933"/>
                </a:solidFill>
                <a:latin typeface="Verdana"/>
              </a:rPr>
              <a:t>Step 2: Insert/ Update expected ship cal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35400" y="223056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allRef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83280" y="2219400"/>
            <a:ext cx="284472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4760" y="260028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as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86040" y="2631960"/>
            <a:ext cx="814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86040" y="2612880"/>
            <a:ext cx="6699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SGSIN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4760" y="284472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 las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86040" y="2860560"/>
            <a:ext cx="130788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86040" y="2828880"/>
            <a:ext cx="130788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9/6/2009 16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93920" y="2600280"/>
            <a:ext cx="538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A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93920" y="2876400"/>
            <a:ext cx="674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49800" y="2631960"/>
            <a:ext cx="15829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ex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49800" y="2847960"/>
            <a:ext cx="17524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A at Nex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71640" y="261936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71640" y="261612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35280" y="263196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2876400"/>
            <a:ext cx="130824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2616120"/>
            <a:ext cx="1308240" cy="231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4/7/2009 15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2873520"/>
            <a:ext cx="1308240" cy="231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9/7/2009 17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90600" y="312120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xpected Position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35280" y="3121200"/>
            <a:ext cx="43927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6240" y="265104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32720" y="2638440"/>
            <a:ext cx="814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32720" y="2647800"/>
            <a:ext cx="6699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EH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6240" y="263700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19760" y="2876400"/>
            <a:ext cx="130824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19760" y="2876400"/>
            <a:ext cx="145260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20/7/2009 11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35280" y="3102120"/>
            <a:ext cx="4392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15 char subsidiary LOCODE or free text entry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83280" y="2205000"/>
            <a:ext cx="2844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to be inserted by the application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60912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3000" y="5799240"/>
            <a:ext cx="7066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ubmi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1560" y="5827680"/>
            <a:ext cx="4000680" cy="827280"/>
          </a:xfrm>
          <a:prstGeom prst="flowChartAlternateProcess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560" y="5884920"/>
            <a:ext cx="36338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4 hours before arrival information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All ships)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6129360"/>
            <a:ext cx="158904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rsons on boar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63760" y="6119640"/>
            <a:ext cx="673200" cy="231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73400" y="63738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02040" y="63738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av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72080" y="5827680"/>
            <a:ext cx="2730600" cy="827280"/>
          </a:xfrm>
          <a:prstGeom prst="flowChartAlternateProcess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72080" y="5875200"/>
            <a:ext cx="2819160" cy="39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Hazmat Information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All ships arriving from a non EU port carrying dangerous goods)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43520" y="6373800"/>
            <a:ext cx="23335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nter/ update Hazmat info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155" name="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BSOU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049400" y="2230560"/>
            <a:ext cx="3186000" cy="246240"/>
            <a:chOff x="1049400" y="2230560"/>
            <a:chExt cx="3186000" cy="246240"/>
          </a:xfrm>
        </p:grpSpPr>
        <p:sp>
          <p:nvSpPr>
            <p:cNvPr id="159" name=""/>
            <p:cNvSpPr/>
            <p:nvPr/>
          </p:nvSpPr>
          <p:spPr>
            <a:xfrm>
              <a:off x="1049400" y="2230560"/>
              <a:ext cx="11062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Vessel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16080" y="2246400"/>
              <a:ext cx="211932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16080" y="2230560"/>
              <a:ext cx="202428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ICARO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06520" y="3365640"/>
            <a:ext cx="7866000" cy="2368440"/>
            <a:chOff x="506520" y="3365640"/>
            <a:chExt cx="7866000" cy="2368440"/>
          </a:xfrm>
        </p:grpSpPr>
        <p:sp>
          <p:nvSpPr>
            <p:cNvPr id="163" name=""/>
            <p:cNvSpPr/>
            <p:nvPr/>
          </p:nvSpPr>
          <p:spPr>
            <a:xfrm>
              <a:off x="511200" y="3365640"/>
              <a:ext cx="7861320" cy="236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6880" y="4106880"/>
              <a:ext cx="16016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xpected to birth at anchorage?  (Y/N)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2440" y="3670200"/>
              <a:ext cx="15890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                 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hip configuration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95560" y="3670200"/>
              <a:ext cx="1374840" cy="5508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Verdana"/>
                </a:rPr>
                <a:t>(For tankers)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Nature and volume of cargo: 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90600" y="4106880"/>
              <a:ext cx="673200" cy="55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N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90600" y="3670200"/>
              <a:ext cx="67320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DHT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02240" y="3670200"/>
              <a:ext cx="3417840" cy="47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36960" y="4314960"/>
              <a:ext cx="1374840" cy="4777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Verdana"/>
                </a:rPr>
                <a:t>(All ships)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Planned works :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08360" y="4272120"/>
              <a:ext cx="3419640" cy="47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3760" y="4846680"/>
              <a:ext cx="2158920" cy="2462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Verdana"/>
                </a:rPr>
                <a:t>(All ships)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Planned operations: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00440" y="4846680"/>
              <a:ext cx="341964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6520" y="3416400"/>
              <a:ext cx="658152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(3-days before arrival) PSC inspection information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Verdana"/>
                </a:rPr>
                <a:t>(All ships bound for extended inspection)</a:t>
              </a: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47040" y="3416400"/>
              <a:ext cx="517320" cy="2462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ave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64200" y="3416400"/>
              <a:ext cx="623880" cy="2462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Reset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4880" y="5187960"/>
              <a:ext cx="215892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Verdana"/>
                </a:rPr>
                <a:t>(All ships)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onditions of cargo and ballast tanks: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62440" y="5329080"/>
              <a:ext cx="505764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&lt;Free text entry&gt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7481880" y="6378480"/>
            <a:ext cx="847800" cy="2156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Print/ expor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6880" y="6469200"/>
            <a:ext cx="28018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cc3300"/>
                </a:solidFill>
                <a:latin typeface="Verdana"/>
              </a:rPr>
              <a:t>* Mandatory field(s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15080" y="6348240"/>
            <a:ext cx="2385720" cy="285840"/>
          </a:xfrm>
          <a:prstGeom prst="rect">
            <a:avLst/>
          </a:prstGeom>
          <a:noFill/>
          <a:ln w="22320">
            <a:solidFill>
              <a:srgbClr val="00ff00"/>
            </a:solidFill>
            <a:prstDash val="sysDot"/>
            <a:miter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2395800">
            <a:off x="6816240" y="5555880"/>
            <a:ext cx="67464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Wingdings"/>
                <a:ea typeface="Wingdings"/>
              </a:rPr>
              <a:t>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05520" y="1803240"/>
            <a:ext cx="23335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ancel Expected Ship Cal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remove" presetClass="path" presetID="0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5.18519E-006 L -0.01962 0.03149 E">
                                      <p:cBhvr>
                                        <p:cTn id="38" dur="1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74760" y="1363680"/>
            <a:ext cx="8364600" cy="54500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1560" y="1620720"/>
            <a:ext cx="5639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Insert/ Update Hazmat informa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7440" y="1089000"/>
            <a:ext cx="87692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b2b2b2"/>
                </a:solidFill>
                <a:latin typeface="Verdana"/>
              </a:rPr>
              <a:t>&gt;M.S D.Pr. application&gt;Notify/update expected ship call&gt;Step 2: Insert/ Update expected ship call</a:t>
            </a:r>
            <a:r>
              <a:rPr b="1" lang="en-GB" sz="900" spc="-1" strike="noStrike">
                <a:solidFill>
                  <a:srgbClr val="ff9933"/>
                </a:solidFill>
                <a:latin typeface="Verdana"/>
              </a:rPr>
              <a:t>&gt;Insert/update HAZMAT</a:t>
            </a:r>
            <a:r>
              <a:rPr b="1" lang="en-GB" sz="1000" spc="-1" strike="noStrike">
                <a:solidFill>
                  <a:srgbClr val="ff9933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35400" y="204480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allRef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83280" y="2038320"/>
            <a:ext cx="284472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74760" y="2600280"/>
            <a:ext cx="2325600" cy="246240"/>
            <a:chOff x="374760" y="2600280"/>
            <a:chExt cx="2325600" cy="246240"/>
          </a:xfrm>
        </p:grpSpPr>
        <p:sp>
          <p:nvSpPr>
            <p:cNvPr id="190" name=""/>
            <p:cNvSpPr/>
            <p:nvPr/>
          </p:nvSpPr>
          <p:spPr>
            <a:xfrm>
              <a:off x="374760" y="2600280"/>
              <a:ext cx="15112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Last Port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86040" y="2631960"/>
              <a:ext cx="81432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86040" y="2612880"/>
              <a:ext cx="6699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SGSIN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74760" y="284472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 las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86040" y="2860560"/>
            <a:ext cx="130788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86040" y="2847960"/>
            <a:ext cx="130788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9/6/2009 16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93920" y="2600280"/>
            <a:ext cx="538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A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93920" y="2876400"/>
            <a:ext cx="674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49800" y="2631960"/>
            <a:ext cx="15829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ex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49800" y="2847960"/>
            <a:ext cx="17524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A at Nex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71640" y="261936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261612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35280" y="263196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35280" y="2876400"/>
            <a:ext cx="130824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35280" y="2629080"/>
            <a:ext cx="130824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4/7/2009 15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35280" y="2876400"/>
            <a:ext cx="130824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9/7/2009 17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90600" y="312120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xpected Position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35280" y="3121200"/>
            <a:ext cx="43927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6240" y="265104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32720" y="2638440"/>
            <a:ext cx="81432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96000" y="2637000"/>
            <a:ext cx="70668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EH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6240" y="263700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19760" y="2876400"/>
            <a:ext cx="145260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19760" y="2857680"/>
            <a:ext cx="145260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20/7/2009 11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35280" y="3105000"/>
            <a:ext cx="453708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15 char subsidiary LOCODE or free text entry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83280" y="2019240"/>
            <a:ext cx="2844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to be inserted by the application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1200" y="3365640"/>
            <a:ext cx="7661160" cy="236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8960" y="4422600"/>
            <a:ext cx="1601640" cy="70308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lassification of dangerous goods per IMO (multiple entry possible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3868560"/>
            <a:ext cx="1589040" cy="39852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Hazmat in board?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74840" y="436248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DG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74840" y="3859200"/>
            <a:ext cx="673200" cy="24624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6320" y="3416400"/>
            <a:ext cx="65818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Hazmat information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All ships arriving from a Non EU port )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04000" y="641016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288200" y="3416400"/>
            <a:ext cx="5176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av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559640" y="6415200"/>
            <a:ext cx="7063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ubmi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1560" y="5827680"/>
            <a:ext cx="4000680" cy="827280"/>
          </a:xfrm>
          <a:prstGeom prst="flowChartAlternateProcess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1560" y="5884920"/>
            <a:ext cx="36338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4 hours before arrival information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All ships)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6129360"/>
            <a:ext cx="158904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rsons on boar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3760" y="6119640"/>
            <a:ext cx="673200" cy="24624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3400" y="63738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64160" y="34164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02040" y="63738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av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74840" y="461628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74840" y="487044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74840" y="512460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74840" y="540864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56000" y="3716280"/>
            <a:ext cx="3605400" cy="194616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65800" y="5124600"/>
            <a:ext cx="3419280" cy="452160"/>
          </a:xfrm>
          <a:prstGeom prst="flowChartAlternateProcess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41760" y="5180040"/>
            <a:ext cx="3419640" cy="39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tep (2):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Provide URL  of cargo manifest or the contact details of the Cargo Manifest provider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21160" y="3800520"/>
            <a:ext cx="3463920" cy="1212840"/>
          </a:xfrm>
          <a:prstGeom prst="flowChartAlternateProcess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25920" y="4044960"/>
            <a:ext cx="3264120" cy="50472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25920" y="4000680"/>
            <a:ext cx="31878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1a. Provide URL of the HAZMAT declaration document  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Verdana"/>
              </a:rPr>
              <a:t>or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contact details of the data provider of Hazmat declaration details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41760" y="4616280"/>
            <a:ext cx="3264120" cy="24480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41760" y="4616280"/>
            <a:ext cx="3187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1b. Provide Hazmat declaration detai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245" name="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BSOU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535640" y="3800520"/>
            <a:ext cx="36367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tep (1): 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[Choice (</a:t>
            </a:r>
            <a:r>
              <a:rPr b="0" i="1" lang="en-US" sz="1000" spc="-1" strike="noStrike">
                <a:solidFill>
                  <a:srgbClr val="ffffff"/>
                </a:solidFill>
                <a:latin typeface="Verdana"/>
              </a:rPr>
              <a:t>(1a) or (1b)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)]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049400" y="2044800"/>
            <a:ext cx="3186000" cy="246240"/>
            <a:chOff x="1049400" y="2044800"/>
            <a:chExt cx="3186000" cy="246240"/>
          </a:xfrm>
        </p:grpSpPr>
        <p:sp>
          <p:nvSpPr>
            <p:cNvPr id="250" name=""/>
            <p:cNvSpPr/>
            <p:nvPr/>
          </p:nvSpPr>
          <p:spPr>
            <a:xfrm>
              <a:off x="1049400" y="2044800"/>
              <a:ext cx="11062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Vessel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16080" y="2060640"/>
              <a:ext cx="211932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16080" y="2044800"/>
              <a:ext cx="202428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ICARO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651640" y="2308320"/>
            <a:ext cx="237636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pdate  Pre-arrival informati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15080" y="6410160"/>
            <a:ext cx="850680" cy="2156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Print/ expor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74840" y="4362480"/>
            <a:ext cx="1960560" cy="1299960"/>
          </a:xfrm>
          <a:prstGeom prst="rect">
            <a:avLst/>
          </a:prstGeom>
          <a:noFill/>
          <a:ln w="22320">
            <a:solidFill>
              <a:srgbClr val="00ff00"/>
            </a:solidFill>
            <a:prstDash val="sysDot"/>
            <a:miter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13:40:55Z</dcterms:created>
  <dc:creator>Paul Wilkins</dc:creator>
  <dc:description/>
  <dc:language>en-US</dc:language>
  <cp:lastModifiedBy>FIAMMA Lorenzo</cp:lastModifiedBy>
  <cp:lastPrinted>2004-03-26T09:05:49Z</cp:lastPrinted>
  <dcterms:modified xsi:type="dcterms:W3CDTF">2009-04-16T11:41:37Z</dcterms:modified>
  <cp:revision>383</cp:revision>
  <dc:subject/>
  <dc:title>Slide 1</dc:title>
</cp:coreProperties>
</file>